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E59-1E71-4807-926E-AD8B1FB4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770-1367-4517-8E04-28101343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C1D-8411-456B-9C50-4B3AC956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33E-C5D4-46D5-AF23-49E1A16C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D3F4-D4ED-40F3-BB8F-DED2B915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9021-A9F2-49BF-A588-609D2460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0FE6-4BF7-48C6-B1FC-B7099304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1AA6-99FA-48A6-8C98-DC371814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1F8C-EE29-4341-9EB1-78B6BED7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5224-9599-466C-81B6-21121207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45A9-5611-4ED5-B924-8FE903EB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7EE-9C2E-4D76-9992-B183810D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3C72-D765-4A49-A0A7-90891CF1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CA30-E284-451D-929B-4C35BE0B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B55A-25BB-429D-90AF-93BB9DBA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4CEA-167D-42DE-B563-7C59CAFB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28E7-C961-4770-88BB-E3825345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3B6-F693-4489-BCB3-7B85685F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798-455D-4D4D-9572-D992CC49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189-F6F0-4070-B3A6-B4B253F8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3C0-213F-468C-B236-77003E7E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74A-6E1D-4CFD-920E-08F21224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089-977E-483F-BEA9-F4412341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121-997D-42E7-91F3-259FFFB2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2787-E4DA-4882-8835-9E050B25AB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C9AA-E73B-4BF0-94FE-D3843B6BCB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son 2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eking the Pa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rchaeolog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chaeologis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 people who study objects from the past to learn about the people who made and used th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rtifac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 man-made historical obj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archaeological excavation meant to dig up or find artifa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s many experts to find and handle artif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chaeologists choose dig sites using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el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or mound that may cover historic si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ow an archaeological dig work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gins with an air and ground surv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chaeologists draw map and section land into squa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records using compu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 slowly and carefully, one layer at a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nd artifacts are photographed, recorded, and tag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mages of archaeological dig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05120" y="1752480"/>
            <a:ext cx="58863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mages of archaeological dig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0958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mages of archaeological dig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2392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21:55:13Z</dcterms:created>
  <dc:creator>erin.hendricks</dc:creator>
  <dc:description/>
  <dc:language>en-US</dc:language>
  <cp:lastModifiedBy>erin.hendricks</cp:lastModifiedBy>
  <dcterms:modified xsi:type="dcterms:W3CDTF">2011-08-23T22:06:09Z</dcterms:modified>
  <cp:revision>2</cp:revision>
  <dc:subject/>
  <dc:title>Lesson 2</dc:title>
</cp:coreProperties>
</file>